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9B6-B73F-429C-AB3C-A03F0155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27C-83BC-4E68-A0C6-E8C7CFD0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370-94BB-4241-A25B-3C9941A2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FC2-D0B9-41E4-B4EE-075336E9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642-6FE1-4104-8F31-F2890398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6D17-394B-4E25-960F-0EA5722F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1AC-6875-4730-9D7E-FA040C73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064-435D-4002-9CF6-F0F734C5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05D-32FF-48AF-8E19-55BEC858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26A-2681-46E9-8BDB-B3D4488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C67-ACE2-4B60-ABEB-032FC42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358-32FF-4C2F-9BCF-F453B50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7CB4-1A32-4CDE-9D31-4CE4612D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4.bp.blogspot.com/_cudK8MwW64I/SNBh07_6RDI/AAAAAAAAGWM/RV1aAd0139U/s400/tx_cinderella.jpg&amp;imgrefurl=http://www.onlinewatchmovies.net/2008/09/cinderella-1950-animation-movie-watch.html&amp;h=355&amp;w=355&amp;sz=44&amp;tbnid=FZ2kXn10jsJDdM::&amp;tbnh=121&amp;tbnw=121&amp;prev=/images%3Fq%3Dcinderella&amp;hl=en&amp;usg=__5yquR_f_wux3Tu3uVDHqRV5JJu0=&amp;ei=WK-cSanFFoT8NPeU2Y4F&amp;sa=X&amp;oi=image_result&amp;resnum=3&amp;ct=image&amp;c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puzzlehouse.com/images/webpage/monalisa1000.jpg&amp;imgrefurl=http://www.puzzlehouse.com/monalisa140.htm&amp;usg=__zF5pKKkc1tSkP-JVrTIE5Or8Cf8=&amp;h=354&amp;w=267&amp;sz=28&amp;hl=en&amp;start=6&amp;sig2=z3xu2u_i6U3CcEN2gUvr9w&amp;um=1&amp;tbnid=eK0_HIshGYDUEM:&amp;tbnh=121&amp;tbnw=91&amp;ei=YbGcSZnDN46qsAPzxqS5Bw&amp;prev=/images%3Fq%3Dmonalisa%26um%3D1%26hl%3Den%26rlz%3D1T4SKPB_enUS283US283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ardboardcutouts.com/0638%2520Snow%2520White.jpg&amp;imgrefurl=http://yddovm.blogspot.com/2008_04_01_archive.html&amp;h=400&amp;w=263&amp;sz=13&amp;tbnid=eu8Y7AMVGYB5lM::&amp;tbnh=124&amp;tbnw=82&amp;prev=/images%3Fq%3Dsnow%2Bwhite&amp;hl=en&amp;usg=__AhhdvKCDCV0LqyFH0xqlW9C3q_g=&amp;ei=hK-cSbWlOYTcNLu4rZwF&amp;sa=X&amp;oi=image_result&amp;resnum=2&amp;ct=image&amp;cd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businessweek.com/the_thread/brandnewday/archives/pinocchio.png&amp;imgrefurl=http://www.businessweek.com/the_thread/brandnewday/archives/2008/09/mccain_camp_if.html&amp;usg=__GKwzuo42PhYtLdgIh8_rfnSaoyk=&amp;h=411&amp;w=411&amp;sz=52&amp;hl=en&amp;start=2&amp;sig2=KEFa9yXh81wfnvJ2aRjrPg&amp;um=1&amp;tbnid=K_OuhSyzDAakwM:&amp;tbnh=125&amp;tbnw=125&amp;ei=ra-cScqYKorMsAOmxui3Bw&amp;prev=/images%3Fq%3Dpinocchio%26um%3D1%26hl%3Den%26rlz%3D1T4SKPB_enUS283US283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orwelltoday.com/gulliver1.jpg&amp;imgrefurl=http://www.orwelltoday.com/gulliver.shtml&amp;usg=__MSmPohCUqek0-k_9_6LUJ3gUBCE=&amp;h=640&amp;w=393&amp;sz=82&amp;hl=en&amp;start=1&amp;sig2=ztp2qKDoOpbDWoG8Mqh9fQ&amp;um=1&amp;tbnid=MdfSyzF8oIlz6M:&amp;tbnh=137&amp;tbnw=84&amp;ei=yq-cSYeREIrKtQPPoMmrBw&amp;prev=/images%3Fq%3Dgulliver%26um%3D1%26hl%3Den%26rlz%3D1T4SKPB_enUS283US283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upload.wikimedia.org/wikipedia/sl/thumb/7/7f/Mickey_Mouse.svg/200px-Mickey_Mouse.svg.png&amp;imgrefurl=http://sl.wikipedia.org/wiki/Miki_Mi%25C5%25A1ka&amp;usg=__me7YanjaLrfOqCCb9ut2G1EoGFg=&amp;h=230&amp;w=200&amp;sz=19&amp;hl=en&amp;start=2&amp;sig2=kM9Rft69aEi75o6-21rtgA&amp;um=1&amp;tbnid=99jVwlb-a6AeRM:&amp;tbnh=108&amp;tbnw=94&amp;ei=sLGcSfmcFZngsAOR1dS1Bw&amp;prev=/images%3Fq%3Dmiki%2Bmouse%26um%3D1%26hl%3Den%26rlz%3D1T4SKPB_enUS283US283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ה  שיער שחור  יש לה  שבעה  חברים טובים.   מי 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962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ה שיער חום  ועיניים שחור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יזה  צד  הי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2000160"/>
            <a:ext cx="7286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ו עיניים כחול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יזה  צד  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048120" cy="437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3956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ו עיניים  חומות  ושיער  שחור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יזה   צד   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048120" cy="437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3956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רזה  וגבוה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 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20880" y="1752480"/>
            <a:ext cx="304776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2655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ה עיניים כחולות ושיער ארוך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552840" cy="476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524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ה שיער שחור ועיניים שחורות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יזה  צד  הי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495680" cy="3678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6520" y="1447920"/>
            <a:ext cx="3267000" cy="487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66360" y="63244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אה קבדי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5562720"/>
            <a:ext cx="26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ר  רפאלי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ו  שיע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חו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2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אסתי ממו  מאתיופיה  יש עיני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 ושיע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חומות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647676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הצבע  של  העיניים של מט דיימון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כחו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03840" y="1219320"/>
            <a:ext cx="3570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מתאימים  זה  לזה  ?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אתם חושב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לה  אימא . יש לה חיים קשים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ה  רגל  קטנה .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יש לה  סוף  טוב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 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8098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צבע העיניים של דיגו ל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חום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72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ג'ווייר  ברדם    ופנלופי קרוז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מתאימים זה  לז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הצבע של  העיניים של לאונרד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כחו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562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לו אף  ארוך. יש לו אבא טוב. הוא לא תמיד אומר את האמת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1148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55344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 לו   גוף    גדול   ולב  טוב.  הוא גבוה . 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                     מי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5812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3886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55344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 לה עיניים  חומות ושיער  חום יש לה  מקום במוזיאון הלובר  בפריז.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                 מי זא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http://www.onlinewatchmovies.net/2008/09/cinderella-1950-animation-movie-watch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5812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http://yddovm.blogspot.com/2008_04_01_archive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880" y="3352680"/>
            <a:ext cx="186372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3886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26280" y="3581280"/>
            <a:ext cx="1719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655344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 לו   ראש     גדול   וגוף   קטן  ואישה    רזה. יש   לו    בית בדיסנילנד.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                 מי ז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http://yddovm.blogspot.com/2008_04_01_archive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65760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886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62720" y="3657600"/>
            <a:ext cx="144792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66880" y="3809880"/>
            <a:ext cx="1592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נמוך    צעיר    עם    שיער חום    .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  ז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81480" y="3352680"/>
            <a:ext cx="217152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89840" y="2438280"/>
            <a:ext cx="2057400" cy="2895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2770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 רזה   עם שיער  ארוך  בלונדינ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372120" cy="4496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238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ש לה  שיער  קצר  שחור  והיא   גבוה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10824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9531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1:01:33Z</dcterms:created>
  <dc:creator>Preferred Customer</dc:creator>
  <dc:description/>
  <dc:language>en-US</dc:language>
  <cp:lastModifiedBy>aschlezinger</cp:lastModifiedBy>
  <dcterms:modified xsi:type="dcterms:W3CDTF">2010-11-02T21:50:29Z</dcterms:modified>
  <cp:revision>4</cp:revision>
  <dc:subject/>
  <dc:title>יש לה  שיער שחור  יש לה  שבעה  חברים טובים.   מי זאת? </dc:title>
</cp:coreProperties>
</file>